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463320"/>
            <a:ext cx="8607600" cy="1734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tö opetuksen ja ohjauksen tuke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Tiina, Tarja, Tari ja Sirp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1076400"/>
                <a:tab algn="l" pos="1795320"/>
                <a:tab algn="l" pos="2514600"/>
                <a:tab algn="l" pos="3233880"/>
                <a:tab algn="l" pos="3952800"/>
                <a:tab algn="l" pos="4672080"/>
                <a:tab algn="l" pos="5391000"/>
                <a:tab algn="l" pos="6110280"/>
                <a:tab algn="l" pos="6829560"/>
                <a:tab algn="l" pos="7548480"/>
                <a:tab algn="l" pos="8267760"/>
                <a:tab algn="l" pos="8986680"/>
                <a:tab algn="l" pos="9705960"/>
                <a:tab algn="l" pos="10425240"/>
                <a:tab algn="l" pos="111441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yvä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Opetus monipuolis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ynnys tietokoneeseen madal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Materiaalin saa blogiin opiskelijoiden saatavil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Opiskelumotivaatio lisäänty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Erilainen oppimisympäristö, tukee erilaisia oppimistap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6.Tiedon jakaminen muille helppo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7. opiskelijoiden toistensa kannustam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8. Oman oppimista seura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1076400"/>
                <a:tab algn="l" pos="1795320"/>
                <a:tab algn="l" pos="2514600"/>
                <a:tab algn="l" pos="3233880"/>
                <a:tab algn="l" pos="3952800"/>
                <a:tab algn="l" pos="4672080"/>
                <a:tab algn="l" pos="5391000"/>
                <a:tab algn="l" pos="6110280"/>
                <a:tab algn="l" pos="6829560"/>
                <a:tab algn="l" pos="7548480"/>
                <a:tab algn="l" pos="8267760"/>
                <a:tab algn="l" pos="8986680"/>
                <a:tab algn="l" pos="9705960"/>
                <a:tab algn="l" pos="10425240"/>
                <a:tab algn="l" pos="111441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uono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Työlä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äytön haastavu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Ei tue kaikkia opiskelumu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Tarvittavat muut ohjelmat ja ympäristö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58920"/>
                <a:tab algn="l" pos="1076400"/>
                <a:tab algn="l" pos="1795320"/>
                <a:tab algn="l" pos="2514600"/>
                <a:tab algn="l" pos="3233880"/>
                <a:tab algn="l" pos="3952800"/>
                <a:tab algn="l" pos="4672080"/>
                <a:tab algn="l" pos="5391000"/>
                <a:tab algn="l" pos="6110280"/>
                <a:tab algn="l" pos="6829560"/>
                <a:tab algn="l" pos="7548480"/>
                <a:tab algn="l" pos="8267760"/>
                <a:tab algn="l" pos="8986680"/>
                <a:tab algn="l" pos="9705960"/>
                <a:tab algn="l" pos="10425240"/>
                <a:tab algn="l" pos="111441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yläkoulu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välttämättä sovellu kaikkeen eikä ehkä yläkoulussa tapahtuvaan opiskeluu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tivaation merkit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yhmätöiden tekemiseen wiki ja käsite-kart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ä voisi käyttää yläkoulussa esim. Koetilante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ttp://mind42.com/pub/mindmap?mid=ec834bcc-1e83-4cc3-935b-7f5aa73c295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Pohdint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isältö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 Johdan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 Oppimisympäristö ja oppimisen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 Affordanssiteor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 Blogin pedagoginen käytettävy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 Pedagoginen käytettävyys yläkoulu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6 Pohdin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äh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Johdanto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etus yhä merkitsevämmäksi osaksi opetusta eri kouluastei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alustat ovat helppokäyttöisiä ja mahdollistaa osallistumisen keskusteluih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t soveltuvat hyvin opetuskäyttöö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atii opettajilta kouluttautumista ja taitojen kehittämistä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“läsnäolo” tehtävä näkyväks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-4258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yön tavoite esimerkin avulla kuvata blogin käyttöä opetuks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64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463320"/>
            <a:ext cx="8607600" cy="1734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ympäristö ja oppimisen strategi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ietoisia kognitiivisia toimintoja, joiden avulla oppija pyrkii saavuttamaan oppimistehtävälle asettamansa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mmärtävän oppimisen voi saavuttaa todennäköisemmin käyttämällä oppimisen strategioi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pimisympäristö ohjaa oppijan käyttämien strategioiden valinta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yperteksti ei tuota parempaa oppimista, vaan merkityksellisiä ovat tekstin prosessoinnin strategi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en strategiat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harjoittelu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eloborointi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organisointi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metakognitiiviset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affektiiviset 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ssä on helppo havaita oma ja muiden toiminta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878040"/>
                <a:tab algn="l" pos="1596960"/>
                <a:tab algn="l" pos="2316240"/>
                <a:tab algn="l" pos="3035160"/>
                <a:tab algn="l" pos="3754440"/>
                <a:tab algn="l" pos="4473720"/>
                <a:tab algn="l" pos="5192640"/>
                <a:tab algn="l" pos="5911920"/>
                <a:tab algn="l" pos="6630840"/>
                <a:tab algn="l" pos="7350120"/>
                <a:tab algn="l" pos="8069400"/>
                <a:tab algn="l" pos="8788320"/>
                <a:tab algn="l" pos="9507600"/>
                <a:tab algn="l" pos="10226520"/>
                <a:tab algn="l" pos="109458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on helppo havaita, miten kukin oppija etenee ja milloin tukea tarvita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koittaa toimijan ja ympäristön välistä vuorovaikutusta, jolloin huomioidaan opiskelijan ominaisuudet ja tarpeet sekä ympäristön tarjoamat mahdollisuud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ivät ole ympäristön tai yksilön ominaisuuksia, resursseja tai piirteitä, vaan muodostuvat vuorovaikutuksessa, havaitsemisessa, toiminnasssa, oppimisessa näiden väli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n tärkein käyttömahdollisuus on tiedon jakaminen tietylle intressiryhmä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mahdollista reaaliaikaista läsnä- oloa, mutta asynkroninen keskustelu ja kommentointi kuuluvat blogin teknisiin omi-naisuuksi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lukion 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äytettävyys onmitta siitä, miten hyvin  käyttäjät voivat käyttää esim. oppimisympäristöä opiskelussa ja samalla saavuttaa asetetut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imerkkinä lukio-opintojen tukena kurssi-blogin käytt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 aktiiivinen osallistuja esim. akti-voimalla ja kannustama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simerkkinä blogi lukio-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sta löytyisi tunneilla käyty materiaali, jos opiskelija joutuu olemaan pois tunnil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urssiblogin sisältö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ilmoitustaulu, jonne mm. tehtäväanno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keskustelukanav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alautekanava, kaksisuunta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vinkit mm. julkaisuja tai vanhoja ylioppilaskokei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 opiskelijan omaan oppimisblogii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imisi ainakin osana lukio-opin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47:20Z</dcterms:created>
  <dc:creator>Sirpa Erkkilä-Häkkinen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